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EE2D-5AE9-4460-B07D-0240C351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02F5-4D61-4872-9FDA-FD031420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1C72-340F-42FD-959A-7BA3A551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FCBE-F7BC-402D-AF1F-637F3C8E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684-07E2-4337-BF96-AC8D804E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CE8-90C0-4982-8FF1-7CDBA4A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2A0-4AC8-48AA-99D4-29810BC8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B72-1979-4080-A7B8-11D45C33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49C3-82AD-46DC-8FFA-4BD66D34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DC4D-545A-4577-B453-DA118F48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7BF-73A0-4513-A69B-B0D8D05A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35BA-9732-49E6-9C3C-6FD57DC6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F74E-9C51-498B-ABB4-FF4AFB8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24A-ABB1-4155-A4A3-BBE9CDE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925-6984-4893-AC76-C16555A6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2459-60FB-45A6-BFB1-8C0486D2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B14D-17D0-44BE-B484-FEA7F153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06F7-875B-4408-BBF9-39FFE07F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78D6-359A-4696-86C0-364CC46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B598-D853-4C3F-9E91-6C298D2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8846-AAA5-46CA-A9C4-97E0B90F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507B-38C6-43CD-86BB-774F396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D847-F62B-46D9-8CF0-C4C706B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123D-83E3-43E0-AED6-4704881E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0C14-68B2-4FD7-A718-D749757B8D7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4DF-69BD-4CB9-BFDA-57D802AF038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37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Река кристал аз знам, чиито води тихо текат на вси стран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я може от грях да те освобо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я пий и се хра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ушо моя, не се кри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аз река, моля те, пи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еб Бог не ще я отреч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и теб тя теч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Реката, що носи вода на живот, извира от кръста Христов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светата Си кръв, тоз най-скъп имо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ля за живот на све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ушо моя, не се кри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аз река, моля те, пи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еб Бог не ще я отреч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и теб тя теч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203840"/>
            <a:ext cx="95774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, който копней за небесен пок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к' има той чисто сърц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който в реката умий се, сам той ще гледа в век Бога в лиц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ушо моя, не се кри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таз река, моля те, пи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теб Бог не ще я отреч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и теб тя теч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2T15:31:26Z</dcterms:modified>
  <cp:revision>192</cp:revision>
  <dc:subject/>
  <dc:title>Slide 1</dc:title>
</cp:coreProperties>
</file>